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0003-D311-4114-A4E1-70808C4C7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F57C-DC45-41E6-A772-032C69A25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5F71-1FE7-4B32-903D-FE73128B6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2CEB-D299-4820-9C0E-E9284CD33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82B53-8278-43EB-81B1-146A63A68B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7A49E-2992-41BF-9C65-8CCD62C738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5F680-EC4C-4C36-B066-4728B28F5B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AA453-31CB-4EDC-B758-855B670AF7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BA509-021A-466F-86E3-B6717B66A7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6675-52CD-42A7-85A8-ACFE67807B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AEFEB-D08C-418F-973D-5E2007A66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DEBF-1968-47C2-8565-FE13F1D05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8B263-49B2-4F8C-A9F1-C4059AF5F3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34E8F-4B69-48B5-A659-06777A6D99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23EE8-4B56-41E5-9EEA-226186408E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978FE-925D-45D2-BC2D-63E148C0B0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B7B1F-7330-4F72-8989-393DCCAAB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5F9C-0239-44E4-82FB-1674D19C7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F32C-BE09-481F-A531-B2CFCA373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F671-9B7C-402B-8B28-4E090319B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45D5-A01C-48DC-B485-6BB07B003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A3F2-C8B5-4ED3-8D23-0D171C7D4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834D-4D77-459E-BAC2-062B9DF8F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A256-145B-4DC7-AFB4-CB1AD35B7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70307DB-7EDC-4856-874B-E12D9829B28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B7A4DBD-CA11-401D-B397-9039D0F780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0844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38040"/>
            <a:ext cx="250488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27D2D41-1FA7-4BCE-A31E-6E21274A41F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9B971DF-BE2B-4B21-A71D-B73FBD0D3C2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9-01-24T11:11:59Z</dcterms:modified>
  <cp:revision>257</cp:revision>
  <dc:subject/>
  <dc:title>8: SAMPLE SIZE DETERMINATION</dc:title>
</cp:coreProperties>
</file>